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A4673-E3A4-4E22-979C-70C6393ECC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6" idx="0"/>
            <a:endCxn id="606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08" name=""/>
          <p:cNvCxnSpPr>
            <a:stCxn id="606" idx="2"/>
            <a:endCxn id="606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7BC53E-7CA5-4DA2-A8B9-7D22B5F19F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6" name=""/>
          <p:cNvCxnSpPr>
            <a:stCxn id="615" idx="0"/>
            <a:endCxn id="615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17" name=""/>
          <p:cNvCxnSpPr>
            <a:stCxn id="615" idx="2"/>
            <a:endCxn id="615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E8B7A-2FE8-455C-A9DA-1C594173AB9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5920" y="4533840"/>
            <a:ext cx="1941480" cy="18936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4" idx="0"/>
            <a:endCxn id="624" idx="1"/>
          </p:cNvCxnSpPr>
          <p:nvPr/>
        </p:nvCxnSpPr>
        <p:spPr>
          <a:xfrm>
            <a:off x="673200" y="45334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26" name=""/>
          <p:cNvCxnSpPr>
            <a:stCxn id="624" idx="2"/>
            <a:endCxn id="624" idx="3"/>
          </p:cNvCxnSpPr>
          <p:nvPr/>
        </p:nvCxnSpPr>
        <p:spPr>
          <a:xfrm>
            <a:off x="673200" y="4736880"/>
            <a:ext cx="190728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E9B40-582C-4617-8E15-FB2000271C5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4" name=""/>
          <p:cNvCxnSpPr>
            <a:stCxn id="633" idx="0"/>
            <a:endCxn id="633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35" name=""/>
          <p:cNvCxnSpPr>
            <a:stCxn id="633" idx="2"/>
            <a:endCxn id="633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 txBox="1"/>
          <p:nvPr/>
        </p:nvSpPr>
        <p:spPr>
          <a:xfrm>
            <a:off x="381132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87519-E980-44E2-8FCB-78494BF1A2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-360" y="93614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3200" y="4844520"/>
            <a:ext cx="538488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83640" y="4545000"/>
            <a:ext cx="1942920" cy="189000"/>
          </a:xfrm>
          <a:prstGeom prst="leftRightArrow">
            <a:avLst>
              <a:gd name="adj1" fmla="val 100000"/>
              <a:gd name="adj2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" rIns="10080" tIns="648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de-DE" sz="1200" spc="-1" strike="noStrike">
                <a:solidFill>
                  <a:srgbClr val="9e1d3e"/>
                </a:solidFill>
                <a:latin typeface="Arial"/>
              </a:rPr>
              <a:t>STRICTL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>
            <a:stCxn id="642" idx="0"/>
            <a:endCxn id="642" idx="1"/>
          </p:cNvCxnSpPr>
          <p:nvPr/>
        </p:nvCxnSpPr>
        <p:spPr>
          <a:xfrm>
            <a:off x="672840" y="4544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  <p:cxnSp>
        <p:nvCxnSpPr>
          <p:cNvPr id="644" name=""/>
          <p:cNvCxnSpPr>
            <a:stCxn id="642" idx="2"/>
            <a:endCxn id="642" idx="3"/>
          </p:cNvCxnSpPr>
          <p:nvPr/>
        </p:nvCxnSpPr>
        <p:spPr>
          <a:xfrm>
            <a:off x="672840" y="4733640"/>
            <a:ext cx="1964520" cy="1080"/>
          </a:xfrm>
          <a:prstGeom prst="straightConnector1">
            <a:avLst/>
          </a:prstGeom>
          <a:ln w="19080">
            <a:solidFill>
              <a:srgbClr val="9e1d3e"/>
            </a:solidFill>
            <a:miter/>
          </a:ln>
        </p:spPr>
      </p:cxn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FE53106B-E735-4D4F-AC64-00801F313720}" type="datetime">
              <a:rPr b="0" lang="de-DE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</a:t>
            </a:r>
            <a:fld id="{50A28706-FC71-482D-951E-530A36F4FB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Devic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70 Product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rch 2005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58000" y="381960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436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Up-to-date 'candy bar'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ractive 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rm colou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62000" y="3035160"/>
            <a:ext cx="3274920" cy="1012680"/>
            <a:chOff x="162000" y="3035160"/>
            <a:chExt cx="3274920" cy="1012680"/>
          </a:xfrm>
        </p:grpSpPr>
        <p:sp>
          <p:nvSpPr>
            <p:cNvPr id="103" name=""/>
            <p:cNvSpPr/>
            <p:nvPr/>
          </p:nvSpPr>
          <p:spPr>
            <a:xfrm>
              <a:off x="414360" y="3819240"/>
              <a:ext cx="3022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wo pre-installed gam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2000" y="303516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2560" y="3281040"/>
              <a:ext cx="1145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70564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5692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05640" y="30351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8000" y="1947960"/>
            <a:ext cx="302256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isplay: 101 x 64 pixels, b/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4-chord 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560" y="3281400"/>
            <a:ext cx="11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365904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lou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15760" y="5443560"/>
            <a:ext cx="1276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alladium B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87880" y="5443560"/>
            <a:ext cx="1598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ebble Light Sil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81680" y="1265400"/>
            <a:ext cx="1946160" cy="4063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14720" y="1265400"/>
            <a:ext cx="1946160" cy="4063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600" y="1063800"/>
            <a:ext cx="6818400" cy="36324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7600" y="14270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4000" y="1130400"/>
            <a:ext cx="87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5080" y="146052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7600" y="16905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5800" y="1724040"/>
            <a:ext cx="860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7600" y="19540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9760" y="1987560"/>
            <a:ext cx="187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andby Time / Talk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600" y="22176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5080" y="2251080"/>
            <a:ext cx="906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 Siz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7600" y="24811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251460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7600" y="27446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5800" y="277812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00" y="30081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5080" y="304164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00" y="32716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5080" y="33051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82000" y="14605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78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84880" y="1724040"/>
            <a:ext cx="1308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2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4520" y="198756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25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h /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3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83800" y="2251080"/>
            <a:ext cx="1098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101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64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pixe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82720" y="251460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Black / Whi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82000" y="27781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82000" y="30416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4160" y="330516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i-Ion 6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Arial"/>
              </a:rPr>
              <a:t>00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 mA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00" y="3535200"/>
            <a:ext cx="6818400" cy="363600"/>
          </a:xfrm>
          <a:prstGeom prst="rect">
            <a:avLst/>
          </a:prstGeom>
          <a:solidFill>
            <a:srgbClr val="afc2c8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600" y="38988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3640" y="3602160"/>
            <a:ext cx="806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6160" y="393228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7600" y="41623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160" y="41958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00" y="44258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600" y="445932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emory Capac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00" y="468936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6880" y="4722840"/>
            <a:ext cx="1134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rnet Acc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7600" y="495288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880" y="4986360"/>
            <a:ext cx="1015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etwork 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7600" y="521640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7240" y="5249880"/>
            <a:ext cx="10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ata Transf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00" y="547992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5800" y="5513400"/>
            <a:ext cx="896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7600" y="5743440"/>
            <a:ext cx="6818400" cy="263520"/>
          </a:xfrm>
          <a:prstGeom prst="rect">
            <a:avLst/>
          </a:prstGeom>
          <a:solidFill>
            <a:srgbClr val="d7e0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8320" y="5776920"/>
            <a:ext cx="2085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Video Recording &amp; Playb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81640" y="393228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MS, EM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82000" y="41958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2000" y="445932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82000" y="472284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92440" y="4986360"/>
            <a:ext cx="3310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ri-band 900 / 1800 / 1900, 850 / 1800 / 19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82000" y="524988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82000" y="551340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82000" y="5776920"/>
            <a:ext cx="320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/ –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3671" t="663" r="3752" b="663"/>
          <a:stretch/>
        </p:blipFill>
        <p:spPr>
          <a:xfrm>
            <a:off x="7124760" y="1527120"/>
            <a:ext cx="1824120" cy="406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56200" y="1525680"/>
            <a:ext cx="2880" cy="144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0" y="1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3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0032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41880" y="1157400"/>
            <a:ext cx="147024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12120" y="1157400"/>
            <a:ext cx="1469880" cy="788760"/>
          </a:xfrm>
          <a:prstGeom prst="rect">
            <a:avLst/>
          </a:prstGeom>
          <a:solidFill>
            <a:srgbClr val="42677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4640" y="1379520"/>
            <a:ext cx="127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ash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amp; Car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6120" y="1468440"/>
            <a:ext cx="120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31760" y="1494000"/>
            <a:ext cx="111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354400" y="1192320"/>
            <a:ext cx="741240" cy="712800"/>
            <a:chOff x="2354400" y="1192320"/>
            <a:chExt cx="741240" cy="712800"/>
          </a:xfrm>
        </p:grpSpPr>
        <p:sp>
          <p:nvSpPr>
            <p:cNvPr id="193" name=""/>
            <p:cNvSpPr/>
            <p:nvPr/>
          </p:nvSpPr>
          <p:spPr>
            <a:xfrm>
              <a:off x="23544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60760" y="1562040"/>
              <a:ext cx="91800" cy="17928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60760" y="147312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60760" y="149688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0760" y="171288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60760" y="171288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4640" y="152712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46440" y="173340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4640" y="150192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4640" y="152568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59040" y="148896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57600" y="150192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71640" y="148284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76680" y="148896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54360" y="147312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71640" y="148284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43200" y="147312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3996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30600" y="144936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3996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09720" y="144936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30600" y="144936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95680" y="144936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9720" y="144936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5680" y="146196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95680" y="146196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85960" y="147312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95680" y="147312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85960" y="147312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76600" y="149868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1760" y="146196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52560" y="148104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2280" y="148896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44640" y="147168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79560" y="1525680"/>
              <a:ext cx="100080" cy="5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57680" y="16477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120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6848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22400" y="164772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1772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3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84600" y="1647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79560" y="1647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98640" y="1647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57680" y="166860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5120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848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22400" y="166860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1772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3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84600" y="166860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79560" y="166860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98640" y="166860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768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5120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684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22400" y="169056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772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33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84600" y="16905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7956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798640" y="16905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768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5120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684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2400" y="171288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772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3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4600" y="171288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7956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98640" y="1712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1280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3040" y="161280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0680" y="161280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81360" y="161136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720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5880" y="161136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68480" y="161136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54440" y="161928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835440" y="1192320"/>
            <a:ext cx="741240" cy="712800"/>
            <a:chOff x="3835440" y="1192320"/>
            <a:chExt cx="741240" cy="712800"/>
          </a:xfrm>
        </p:grpSpPr>
        <p:sp>
          <p:nvSpPr>
            <p:cNvPr id="275" name=""/>
            <p:cNvSpPr/>
            <p:nvPr/>
          </p:nvSpPr>
          <p:spPr>
            <a:xfrm>
              <a:off x="383544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67360" y="154944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25760" y="179532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54400" y="145584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56200" y="151776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56200" y="151776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55920" y="163980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920" y="163836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5640" y="176832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5040" y="1450800"/>
              <a:ext cx="22320" cy="3204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52760" y="178128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33880" y="140796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146480" y="142092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4284720" y="1463760"/>
              <a:ext cx="177840" cy="325440"/>
              <a:chOff x="4284720" y="1463760"/>
              <a:chExt cx="177840" cy="325440"/>
            </a:xfrm>
          </p:grpSpPr>
          <p:sp>
            <p:nvSpPr>
              <p:cNvPr id="289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03440" y="148248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284720" y="146376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21800" y="152064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0208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39704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504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365720" y="1649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3606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378680" y="1649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327200" y="1649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32216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40880" y="1649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40208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39704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1504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65720" y="167148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606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78680" y="167148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27200" y="167148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32216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40880" y="167148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0208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9704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1504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5720" y="169416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3606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378680" y="169416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327200" y="169416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2216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40880" y="169416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208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39704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504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365720" y="17164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606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378680" y="17164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27200" y="17164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2216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40880" y="17164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5720" y="161208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56360" y="161208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74360" y="161208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6120" y="161028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23600" y="1609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39440" y="161892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401720" y="161028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4680" y="160992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99200" y="1618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5291280" y="1192320"/>
            <a:ext cx="741240" cy="712800"/>
            <a:chOff x="5291280" y="1192320"/>
            <a:chExt cx="741240" cy="712800"/>
          </a:xfrm>
        </p:grpSpPr>
        <p:sp>
          <p:nvSpPr>
            <p:cNvPr id="339" name=""/>
            <p:cNvSpPr/>
            <p:nvPr/>
          </p:nvSpPr>
          <p:spPr>
            <a:xfrm>
              <a:off x="52912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5840" y="166356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33920" y="166356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73760" y="158112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478480" y="156204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24360" y="150012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05640" y="148104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42000" y="153828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23000" y="16668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18320" y="16668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35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862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8160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924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48480" y="16668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43440" y="16668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61080" y="1666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23000" y="16891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18320" y="16891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35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862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8160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9924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48480" y="1689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43440" y="1689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61080" y="1689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823000" y="17114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18320" y="17114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5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862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8160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9924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48480" y="1711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43440" y="1711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61080" y="1711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3000" y="173340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18320" y="173340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35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862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8160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924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48480" y="1733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43440" y="1733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61080" y="1733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86280" y="162864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7692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96000" y="162864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46680" y="162720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4344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61080" y="163656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23000" y="162720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835600" y="16272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819760" y="16365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8229600" y="1192320"/>
            <a:ext cx="741240" cy="712800"/>
            <a:chOff x="8229600" y="1192320"/>
            <a:chExt cx="741240" cy="712800"/>
          </a:xfrm>
        </p:grpSpPr>
        <p:sp>
          <p:nvSpPr>
            <p:cNvPr id="394" name=""/>
            <p:cNvSpPr/>
            <p:nvPr/>
          </p:nvSpPr>
          <p:spPr>
            <a:xfrm>
              <a:off x="822960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537400" y="144936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564400" y="162864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537400" y="1601640"/>
              <a:ext cx="150840" cy="13968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697960" y="150192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07320" y="150984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688240" y="149220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724960" y="15462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801280" y="1668600"/>
              <a:ext cx="172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96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81388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767800" y="1668600"/>
              <a:ext cx="158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876132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778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729640" y="166860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724960" y="1668600"/>
              <a:ext cx="93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742240" y="166860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801280" y="16905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796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81388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767800" y="169056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6132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778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729640" y="16905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724960" y="16905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742240" y="16905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01280" y="171288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796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81388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67800" y="171288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76132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78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729640" y="171288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724960" y="1712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42240" y="1712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801280" y="173520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796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1388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767800" y="173520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6132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778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29640" y="173520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24960" y="1735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42240" y="17352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67800" y="163512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58080" y="163512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74280" y="163512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72820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26400" y="163188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740800" y="164160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801280" y="163188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813880" y="16318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99480" y="164160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882720" y="1192320"/>
            <a:ext cx="741240" cy="712800"/>
            <a:chOff x="882720" y="1192320"/>
            <a:chExt cx="741240" cy="712800"/>
          </a:xfrm>
        </p:grpSpPr>
        <p:sp>
          <p:nvSpPr>
            <p:cNvPr id="449" name=""/>
            <p:cNvSpPr/>
            <p:nvPr/>
          </p:nvSpPr>
          <p:spPr>
            <a:xfrm>
              <a:off x="88272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1140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66840" y="148896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1240" y="149688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43160" y="148896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52520" y="149868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3440" y="147960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0160" y="153504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49360" y="16621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4468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461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41444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07960" y="1662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27040" y="16621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76280" y="16621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37016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89240" y="166212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49360" y="16844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468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61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1444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07960" y="16844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427040" y="16844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76280" y="16844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37016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89240" y="16844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449360" y="170640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468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461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1444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07960" y="17064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27040" y="170640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76280" y="170640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016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9240" y="170640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49360" y="172872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44468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1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1444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07960" y="172872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27040" y="172872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376280" y="172872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016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89240" y="172872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4440" y="1625760"/>
              <a:ext cx="17640" cy="1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0508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22360" y="1625760"/>
              <a:ext cx="19080" cy="1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7484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7160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8744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49360" y="162396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61960" y="162396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446120" y="16318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386960" y="1405080"/>
            <a:ext cx="1381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1520" y="1392120"/>
            <a:ext cx="143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ands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6769080" y="1192320"/>
            <a:ext cx="741240" cy="712800"/>
            <a:chOff x="6769080" y="1192320"/>
            <a:chExt cx="741240" cy="712800"/>
          </a:xfrm>
        </p:grpSpPr>
        <p:sp>
          <p:nvSpPr>
            <p:cNvPr id="506" name=""/>
            <p:cNvSpPr/>
            <p:nvPr/>
          </p:nvSpPr>
          <p:spPr>
            <a:xfrm>
              <a:off x="6769080" y="119232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045200" y="148284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86680" y="160164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6680" y="148104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080120" y="160164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80120" y="148104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124760" y="148284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99280" y="166212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86600" y="166212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151596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201080" y="151596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203960" y="161928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50240" y="161928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51680" y="156852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199280" y="156852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199280" y="148284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32760" y="149544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7224840" y="1487520"/>
              <a:ext cx="169560" cy="309600"/>
              <a:chOff x="7224840" y="1487520"/>
              <a:chExt cx="169560" cy="309600"/>
            </a:xfrm>
          </p:grpSpPr>
          <p:sp>
            <p:nvSpPr>
              <p:cNvPr id="524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242840" y="150552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224840" y="148752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260120" y="154152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33680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33176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34904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302240" y="1663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29720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14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265520" y="1663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26048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278120" y="1663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3680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3176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34904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302240" y="168516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9720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314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265520" y="168516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6048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78120" y="168516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33680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3176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4904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302240" y="17064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29720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14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5520" y="17064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6048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78120" y="17064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33680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176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4904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02240" y="172800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29720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314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265520" y="172800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048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78120" y="172800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302240" y="162864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93240" y="162864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10520" y="162864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264080" y="162684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26192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77040" y="163512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36440" y="162684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348680" y="162648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333920" y="163512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5860440" y="1392120"/>
            <a:ext cx="1322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181560" y="554508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62120" y="5543640"/>
            <a:ext cx="1410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3188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10032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344400" y="3192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0720" y="2049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3188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572000" y="1946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881600" y="204948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0" y="3089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770360" y="3192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31880" y="3089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75880" y="3192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857600" y="2620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00320" y="2517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2240" y="2620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10160" y="1959120"/>
            <a:ext cx="910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631880" y="3660840"/>
            <a:ext cx="14702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17280" y="37638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St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S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763520" y="2620800"/>
            <a:ext cx="109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Up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7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631880" y="4224240"/>
            <a:ext cx="14702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946880" y="44179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00320" y="1946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211920" y="2049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62000" y="2517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2040" y="26226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Com MD; March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teLindeH</cp:lastModifiedBy>
  <cp:lastPrinted>2004-11-05T14:11:09Z</cp:lastPrinted>
  <dcterms:modified xsi:type="dcterms:W3CDTF">2005-03-15T07:48:51Z</dcterms:modified>
  <cp:revision>456</cp:revision>
  <dc:subject/>
  <dc:title>PowerPoint Presentation</dc:title>
</cp:coreProperties>
</file>